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0CA-423C-4540-8DD4-7BF30955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EC0-6ABF-4FD8-A621-8C7110D2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EE9-33F6-4625-89E6-B3995AED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A5E-02DF-40C3-80AF-6046D6EC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0C3-1613-491A-84A1-E2A77E20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F03-BCCB-4637-9DCF-0C69EAC2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A90A-2CF8-4756-A6DA-9F4561AF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877-7841-4F30-8DAD-9725C6FF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BE4-556F-4589-8E94-F622E63E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9B6-9294-42D4-AB98-8F29D844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3D1-B1E5-4581-BE6F-034A0758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306-D29D-42D9-8B41-FA89A67C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34CF-199C-4373-A707-62955203E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46080" y="168120"/>
            <a:ext cx="7392960" cy="537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9200" y="5584680"/>
            <a:ext cx="62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zioni guida ex tempore 2 - strut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68440" y="6027840"/>
            <a:ext cx="62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g. Luca Cape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222" t="0" r="13172" b="0"/>
          <a:stretch/>
        </p:blipFill>
        <p:spPr>
          <a:xfrm>
            <a:off x="330120" y="3648240"/>
            <a:ext cx="3848040" cy="30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00680" y="3776760"/>
            <a:ext cx="3495600" cy="290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5240" y="933480"/>
            <a:ext cx="4811760" cy="13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8440" y="298440"/>
            <a:ext cx="79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strati: 3 oppure 5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ssori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commerci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240/250/272/295)x13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verticali (paret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orizzontali (sol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20" y="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vola tipo Sistema a Pan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280" y="333360"/>
            <a:ext cx="2648160" cy="3362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84600" y="331920"/>
            <a:ext cx="246060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05320" y="0"/>
            <a:ext cx="2586240" cy="342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6535" b="0"/>
          <a:stretch/>
        </p:blipFill>
        <p:spPr>
          <a:xfrm>
            <a:off x="7821720" y="1935000"/>
            <a:ext cx="1322280" cy="1554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497640" y="5240160"/>
            <a:ext cx="2646360" cy="160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497480" y="5411880"/>
            <a:ext cx="1903320" cy="14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516560" y="3741840"/>
            <a:ext cx="1635120" cy="166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0" y="5184720"/>
            <a:ext cx="2527200" cy="167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157480" y="4048200"/>
            <a:ext cx="2320920" cy="163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814920"/>
            <a:ext cx="2016000" cy="109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208560" y="3576600"/>
            <a:ext cx="2935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217520"/>
            <a:ext cx="86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nd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1257480"/>
            <a:ext cx="5727960" cy="497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3080" y="6189840"/>
            <a:ext cx="865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VAM s.p.a. Progetto di un fabbricato secondo i principi dell’architettura biologica – Mirandola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17520" y="1712880"/>
            <a:ext cx="3111480" cy="18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43080" y="3840120"/>
            <a:ext cx="301752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72040" y="127152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3080" y="5075280"/>
            <a:ext cx="476064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08720" y="3745080"/>
            <a:ext cx="3635280" cy="285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43080" y="12733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321000" y="1428840"/>
            <a:ext cx="2554200" cy="191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39840" y="3562200"/>
            <a:ext cx="48924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1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4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7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3280" y="1206360"/>
            <a:ext cx="4469040" cy="523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0080" y="3535200"/>
            <a:ext cx="4128840" cy="261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29280" y="1265400"/>
            <a:ext cx="3551040" cy="22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Cognento (MO): Sala condomini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9720" y="260280"/>
            <a:ext cx="2635200" cy="63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Giovanni In Persiceto (PO): Ampliamento civile abit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760320"/>
            <a:ext cx="3987720" cy="37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2920" cy="281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760840"/>
            <a:ext cx="456084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5243400"/>
            <a:ext cx="1995480" cy="16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006640" y="5162400"/>
            <a:ext cx="2511360" cy="169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675480" y="4057560"/>
            <a:ext cx="2311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Capellari Luca</cp:lastModifiedBy>
  <dcterms:modified xsi:type="dcterms:W3CDTF">2010-10-26T16:01:57Z</dcterms:modified>
  <cp:revision>23</cp:revision>
  <dc:subject/>
  <dc:title>Diapositiva 1</dc:title>
</cp:coreProperties>
</file>